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0FF-0E9F-4D61-A128-78CA3639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7D7-ABD1-4218-AAC5-C1F42B73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13E-8624-4FFA-9C5A-2CCE77D3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164-E6D0-4058-B942-01D32B73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738-DC70-4634-8F6B-4ACBF98F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482-70AE-410A-9312-31A0874B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E9D-5D7B-4CD1-BC03-1BBBDB4A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A1F-B608-4866-8AFD-7C039114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076-9336-4463-AC32-7BD27739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1BB-AED5-4CD5-BF41-96B2EBA1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95A-4B02-44D1-89B7-4A039A2F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D23-AC10-4247-9589-EE367781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545A-D4C6-4891-B27A-889474623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33920" y="4876920"/>
            <a:ext cx="1504800" cy="33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siunea iunie-iul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5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6</cp:lastModifiedBy>
  <dcterms:modified xsi:type="dcterms:W3CDTF">2012-06-18T10:54:34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